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AEC0-711E-4DF7-8A17-C1F01C37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675-EB30-4B2B-93EE-819F7C4E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E77-9B1C-4BCC-BB59-2C02C149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544C-994A-42F3-8306-FB518BC8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AED0-A7CD-4190-8308-BEDD1FF9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E9BF-13AB-4981-8928-F6E69C69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B208-BF14-461C-A336-6EBFB21A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964-0552-45CD-B71E-624F4CA1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2A6-207A-47E0-8443-7AE01099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B44-4794-46DC-ABBC-28A96B5A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112-AEC6-4386-866F-C3465FFD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326-BAAF-451C-8DF6-A185DB6E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AABF-209B-4E2F-A209-ADA307808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268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altagul</a:t>
            </a:r>
            <a:br>
              <a:rPr sz="4800"/>
            </a:br>
            <a:r>
              <a:rPr b="1" i="1" lang="ro-RO" sz="4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i="1" lang="ro-RO" sz="2000" spc="-1" strike="noStrike">
                <a:solidFill>
                  <a:srgbClr val="000000"/>
                </a:solidFill>
                <a:latin typeface="Times New Roman"/>
              </a:rPr>
              <a:t>Mihail Sadovea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cena</a:t>
            </a: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 înmormântării şi îndeplinirii dreptăţii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0739600">
            <a:off x="0" y="404280"/>
            <a:ext cx="259236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419000">
            <a:off x="7905240" y="399600"/>
            <a:ext cx="1238400" cy="936720"/>
          </a:xfrm>
          <a:prstGeom prst="rect">
            <a:avLst/>
          </a:prstGeom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</p:pic>
      <p:pic>
        <p:nvPicPr>
          <p:cNvPr id="45" name="" descr=""/>
          <p:cNvPicPr/>
          <p:nvPr/>
        </p:nvPicPr>
        <p:blipFill>
          <a:blip r:embed="rId4">
            <a:lum bright="6000"/>
          </a:blip>
          <a:stretch/>
        </p:blipFill>
        <p:spPr>
          <a:xfrm rot="1018800">
            <a:off x="0" y="4221000"/>
            <a:ext cx="1424160" cy="2186280"/>
          </a:xfrm>
          <a:prstGeom prst="rect">
            <a:avLst/>
          </a:prstGeom>
          <a:ln w="0">
            <a:noFill/>
          </a:ln>
          <a:effectLst>
            <a:outerShdw dist="115171" dir="5023148" blurRad="0" rotWithShape="0">
              <a:srgbClr val="996633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n rolurile princip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Vitoria Lipa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- Alexandra Gre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gz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- Alexandru Pa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ţu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- Ciprian Iac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egustorul şi Hangiu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Simona Lu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otu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- Andrei Chi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angiţa</a:t>
            </a:r>
            <a:r>
              <a:rPr b="1" i="1" lang="ro-RO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ristina </a:t>
            </a:r>
            <a:r>
              <a:rPr b="1" i="1" lang="ro-RO" sz="2800" spc="-1" strike="noStrike">
                <a:solidFill>
                  <a:srgbClr val="ffffff"/>
                </a:solidFill>
                <a:latin typeface="Arial"/>
              </a:rPr>
              <a:t>Halmi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ata de la han </a:t>
            </a:r>
            <a:r>
              <a:rPr b="1" i="1" lang="ro-RO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ristina Iac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itre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- Dănuţ P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Gheorghiţ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- Diana Gro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960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600" spc="-1" strike="noStrike">
                <a:solidFill>
                  <a:srgbClr val="000000"/>
                </a:solidFill>
                <a:latin typeface="Arial"/>
              </a:rPr>
              <a:t>În urma reprezentării scenice, un elev realizează fotografii, care vor fi descărcate şi folosite apoi pentru realizarea prezentării scenetei în mod pp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600" spc="-1" strike="noStrike">
                <a:solidFill>
                  <a:srgbClr val="000000"/>
                </a:solidFill>
                <a:latin typeface="Arial"/>
              </a:rPr>
              <a:t>Fiecare fotografie va fi comentată, explicând ce secvenţă a scenetei reprezint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600" spc="-1" strike="noStrike">
                <a:solidFill>
                  <a:srgbClr val="000000"/>
                </a:solidFill>
                <a:latin typeface="Arial"/>
              </a:rPr>
              <a:t>Ex. – secvenţa înmormântării lui Nechifor Li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63280" y="1125000"/>
            <a:ext cx="84358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Secvenţa demascării ucigaşul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ffffff"/>
                </a:solidFill>
                <a:latin typeface="Arial"/>
              </a:rPr>
              <a:t>Secvenţa pedepsirii ucigaşul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18:16Z</dcterms:created>
  <dc:creator>IOANA</dc:creator>
  <dc:description/>
  <dc:language>en-US</dc:language>
  <cp:lastModifiedBy>ws04</cp:lastModifiedBy>
  <dcterms:modified xsi:type="dcterms:W3CDTF">2009-12-10T14:25:28Z</dcterms:modified>
  <cp:revision>4</cp:revision>
  <dc:subject/>
  <dc:title>Diapozitivul 1</dc:title>
</cp:coreProperties>
</file>